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png" ContentType="image/png"/>
  <Override PartName="/ppt/media/image6.wmf" ContentType="image/x-wmf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F78CE-0376-45E9-8FD0-197F3C710F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62325-0092-4B74-A823-2EAEA30E1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5767F-C0BC-4B9C-8BA1-3B65FEE0F2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25C52-6731-4030-A698-F2A88D901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DF82C-3E32-4665-B845-FC823C185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2C911-BD21-4DAE-BCF1-194712A55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D5A43-7016-4F55-9717-5D29416AC0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466D1-F238-46DC-ABB9-28A22C3BD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27AA2-9923-4D28-A943-8544CDE729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88D91-A24F-4CFC-9CA9-FA3FA713D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E4240-DE33-4B28-8655-A4E97DFE6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1BB0C-CB63-48D0-B1D6-2BEFA2DA3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B16F8-6BD2-40CA-9F60-42E679595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1AFA4-2BE5-4287-86D3-A8C07F3C7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3C932-0263-4D53-9339-50FD8CB0B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3AF8F-2620-4CD6-B5D9-F7593780A1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9481B-3E9B-46F4-B6E6-9B72D753B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8F159-6A8C-44C2-9BE8-DCC8117F2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2BEEC-5338-484F-8AB6-90AA7764F3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8988E-4242-4725-8835-5EB6CE2C2B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12AFE-C056-46EC-8AC0-19C5E77E84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544B4-3434-454A-A545-322854F81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4E430-F747-40FD-92F9-C6E7BD47FB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6D199-0952-414F-9F80-59CF508D82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71D33-5849-4531-B4CD-A657C228C2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F9A60-512F-43F5-92C9-71FF7085D0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C7A7-99BC-41EC-9EEC-D0C66428E9F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0DB8-14CC-4EC2-A847-14B9662C09F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87E6-A7C5-4819-8E87-8B398F969A3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372D-BD42-4184-B524-5F0B0217016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45D4-A14A-4B09-97D3-195942484F5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D0EB-BAF9-4A61-943C-70A943C4793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4A24-1DA2-489A-9634-BDF1C93899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48F60-49E5-49BE-8D9F-28FC29C7F0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D0A3-5B88-4EE1-8942-04EDC400AE7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A01B-14E6-4E3B-A623-7EE72FF6E34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4864-5978-4C44-BEBF-5191076D76E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D68D-FB4A-43BF-BD62-DD26555CE98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EDBB-E13C-498C-8F7E-7A20040B1F4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B1186C-772D-4D07-9586-280622064DE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820142-12B1-42E8-AE6D-918FE1DE2D4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DA611A-879F-4E3F-962C-9FCA73106DC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975D60-8DAA-4F61-8593-53402250F15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67C9EE-246D-409B-8D3D-79AE8F64AB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E39E1-F17B-4FEC-87F6-2F241DC83F9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E51FD5-E84D-4B53-8FA4-1E66AB60212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9AFC04-3BFF-4916-A195-4BF24D85134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26DDAC-4EE8-413B-9160-0A0A24B07A6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1101A7-E230-4833-9F28-710EF1C76C2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2A8F86-3139-45FA-BC82-DAE9A68882E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726030-F52C-4F82-B56C-21014B949BE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143621-1CEF-4DFD-AEAA-C3DF64C6EA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6CA1D-E00B-47F0-8EF5-42D8BAEAA4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7EE0C-E0A5-435B-AE81-BAE194EB7B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E2DCD-3370-4503-89BD-4C7B773CC5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6A3B4-8529-4F56-9A88-F23AB88A97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1F068-75B6-4A01-9DD8-415069E5AB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6D69C-50BD-4682-9711-C3B1D2AA76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троль качества молекулярной диагностики – Тема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688AE-A051-4DB7-B96E-F0D2054224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5CB4D-2842-4B50-8398-2405425068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ftr" idx="4"/>
          </p:nvPr>
        </p:nvSpPr>
        <p:spPr>
          <a:xfrm>
            <a:off x="380520" y="6429240"/>
            <a:ext cx="44197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троль качества молекулярной диагностики – Тема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sldNum" idx="5"/>
          </p:nvPr>
        </p:nvSpPr>
        <p:spPr>
          <a:xfrm>
            <a:off x="792432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30211-6E2B-4571-8D6E-F9A7825CD8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895480" y="2023560"/>
            <a:ext cx="6096240" cy="193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Контроль качеств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: 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Молекулярная диагностика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1"/>
          <p:cNvSpPr/>
          <p:nvPr/>
        </p:nvSpPr>
        <p:spPr>
          <a:xfrm>
            <a:off x="380880" y="6429240"/>
            <a:ext cx="441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качества молекулярной диагностики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C640F-C77D-4EE2-A632-B4868750D8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0EE85-73DB-4EA8-894F-6DA6D73A2824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рицательный результат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24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Footer Placeholder 1"/>
          <p:cNvSpPr/>
          <p:nvPr/>
        </p:nvSpPr>
        <p:spPr>
          <a:xfrm>
            <a:off x="380880" y="6429240"/>
            <a:ext cx="441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качества молекулярной диагностики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A4A0E-D26D-4ACC-89CA-0FC614EC0D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293FA-4C75-46BC-9307-F30B8D5E6BFD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иск использования ПЦР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большинство методов ПЦР в реальном времени «домашнего изготовления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аймеры не всегда оптимизированы для анализ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ложительные контроли «домашнего изготовления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рицательные контроли «домашнего изготовления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нтерпретировать результаты следует с осторожность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1"/>
          <p:cNvSpPr/>
          <p:nvPr/>
        </p:nvSpPr>
        <p:spPr>
          <a:xfrm>
            <a:off x="380880" y="6429240"/>
            <a:ext cx="441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качества молекулярной диагностики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FD400-DCDD-478D-86B1-0F8B644AC8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ED593-EA3C-4521-BBBC-F7ABF908BEAE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441972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бщий подход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49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Verdana"/>
              </a:rPr>
              <a:t>Взятие, транспортировка и обработка про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1800" indent="-2728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еспечьте сохранность нуклеиновых кислот во время этих процесс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Verdana"/>
              </a:rPr>
              <a:t>Контроль контаминац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1800" indent="-2728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тановите одностороннее движение по технологической цепочке: от зоны, свободной от ДНК, где готовят реагенты, к зоне обработки проб, затем к зоне, где происходит амплификация и анализ продук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Verdana"/>
              </a:rPr>
              <a:t>Положительные и отрицательные контрол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Verdana"/>
              </a:rPr>
              <a:t>Ссылка</a:t>
            </a: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: CLSI MM3-A (Molecular Diagnostic Methods for Infectious Diseases</a:t>
            </a:r>
            <a:r>
              <a:rPr b="0" lang="ru-RU" sz="24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800000"/>
                </a:solidFill>
                <a:latin typeface="Verdana"/>
              </a:rPr>
              <a:t>[</a:t>
            </a: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Методы молекулярной диагностики инфекционных заболеваний</a:t>
            </a:r>
            <a:r>
              <a:rPr b="0" lang="en-US" sz="1800" spc="-1" strike="noStrike">
                <a:solidFill>
                  <a:srgbClr val="800000"/>
                </a:solidFill>
                <a:latin typeface="Verdana"/>
              </a:rPr>
              <a:t>]</a:t>
            </a: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1"/>
          <p:cNvSpPr/>
          <p:nvPr/>
        </p:nvSpPr>
        <p:spPr>
          <a:xfrm>
            <a:off x="380880" y="6429240"/>
            <a:ext cx="441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качества молекулярной диагностики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34AA1-BADB-4EE6-8EAA-4846DACF60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4BBE5-B76B-44F4-8F31-A357704909B6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онтроль ка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  </a:t>
            </a:r>
            <a:br>
              <a:rPr sz="3600"/>
            </a:b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Молекулярная диагностик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884160" y="1981080"/>
            <a:ext cx="73738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1"/>
          <p:cNvSpPr/>
          <p:nvPr/>
        </p:nvSpPr>
        <p:spPr>
          <a:xfrm>
            <a:off x="380880" y="6429240"/>
            <a:ext cx="441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качества молекулярной диагностики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1F2DF-F542-4C81-BEFE-128974525D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A12CB-4BE8-4214-9AA6-BBEEEED3BEC5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1"/>
          <a:stretch/>
        </p:blipFill>
        <p:spPr>
          <a:xfrm>
            <a:off x="2057400" y="914400"/>
            <a:ext cx="4821120" cy="52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1"/>
          <p:cNvSpPr/>
          <p:nvPr/>
        </p:nvSpPr>
        <p:spPr>
          <a:xfrm>
            <a:off x="380880" y="6429240"/>
            <a:ext cx="441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качества молекулярной диагностики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0EA6B-088B-4732-BA4F-30B6D89B0A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48F41-35AE-4830-BAB6-51FB23951DD8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ЦР в реальном времен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9" name="Oval 3"/>
          <p:cNvSpPr/>
          <p:nvPr/>
        </p:nvSpPr>
        <p:spPr>
          <a:xfrm>
            <a:off x="457200" y="1676520"/>
            <a:ext cx="11430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Narrow"/>
              </a:rPr>
              <a:t>ПРО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Narrow"/>
              </a:rPr>
              <a:t>ПРАЙМ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aq </a:t>
            </a:r>
            <a:r>
              <a:rPr b="1" lang="ru-RU" sz="1800" spc="-1" strike="noStrike">
                <a:solidFill>
                  <a:srgbClr val="ffffff"/>
                </a:solidFill>
                <a:latin typeface="Arial Narrow"/>
              </a:rPr>
              <a:t>полимер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6"/>
          <p:cNvSpPr/>
          <p:nvPr/>
        </p:nvSpPr>
        <p:spPr>
          <a:xfrm>
            <a:off x="3733920" y="2209680"/>
            <a:ext cx="297180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Амплифицирова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специф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нуклеиновая кисл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Измеряем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флуоресцен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1"/>
          <p:cNvSpPr/>
          <p:nvPr/>
        </p:nvSpPr>
        <p:spPr>
          <a:xfrm>
            <a:off x="380880" y="6429240"/>
            <a:ext cx="441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качества молекулярной диагностики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89AF7-C033-4F32-A072-D86B3B4F03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38EDD-211E-4BD1-8B04-9D94C4C87536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6663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еакции амплифик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4"/>
          <p:cNvSpPr/>
          <p:nvPr/>
        </p:nvSpPr>
        <p:spPr>
          <a:xfrm>
            <a:off x="1752480" y="2811600"/>
            <a:ext cx="5612040" cy="2471760"/>
          </a:xfrm>
          <a:custGeom>
            <a:avLst/>
            <a:gdLst>
              <a:gd name="textAreaLeft" fmla="*/ 0 w 5612040"/>
              <a:gd name="textAreaRight" fmla="*/ 5612040 w 5612040"/>
              <a:gd name="textAreaTop" fmla="*/ 0 h 2471760"/>
              <a:gd name="textAreaBottom" fmla="*/ 2472120 h 2471760"/>
            </a:gdLst>
            <a:ahLst/>
            <a:rect l="textAreaLeft" t="textAreaTop" r="textAreaRight" b="textAreaBottom"/>
            <a:pathLst>
              <a:path w="3535" h="1557">
                <a:moveTo>
                  <a:pt x="0" y="1509"/>
                </a:moveTo>
                <a:cubicBezTo>
                  <a:pt x="544" y="1533"/>
                  <a:pt x="1088" y="1557"/>
                  <a:pt x="1392" y="1509"/>
                </a:cubicBezTo>
                <a:cubicBezTo>
                  <a:pt x="1696" y="1461"/>
                  <a:pt x="1712" y="1333"/>
                  <a:pt x="1824" y="1221"/>
                </a:cubicBezTo>
                <a:cubicBezTo>
                  <a:pt x="1936" y="1109"/>
                  <a:pt x="1988" y="1019"/>
                  <a:pt x="2064" y="837"/>
                </a:cubicBezTo>
                <a:cubicBezTo>
                  <a:pt x="2140" y="655"/>
                  <a:pt x="2148" y="252"/>
                  <a:pt x="2283" y="126"/>
                </a:cubicBezTo>
                <a:cubicBezTo>
                  <a:pt x="2418" y="0"/>
                  <a:pt x="2665" y="94"/>
                  <a:pt x="2874" y="80"/>
                </a:cubicBezTo>
                <a:cubicBezTo>
                  <a:pt x="3083" y="66"/>
                  <a:pt x="3397" y="49"/>
                  <a:pt x="3535" y="41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Narrow"/>
              </a:rPr>
              <a:t>Амплификация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 /</a:t>
            </a:r>
            <a:r>
              <a:rPr b="1" lang="ru-RU" sz="1800" spc="-1" strike="noStrike">
                <a:solidFill>
                  <a:srgbClr val="ffffff"/>
                </a:solidFill>
                <a:latin typeface="Arial Narrow"/>
              </a:rPr>
              <a:t> Врем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AutoShape 6" descr=""/>
          <p:cNvPicPr/>
          <p:nvPr/>
        </p:nvPicPr>
        <p:blipFill>
          <a:blip r:embed="rId1"/>
          <a:stretch/>
        </p:blipFill>
        <p:spPr>
          <a:xfrm>
            <a:off x="523800" y="1805040"/>
            <a:ext cx="561960" cy="3462120"/>
          </a:xfrm>
          <a:prstGeom prst="rect">
            <a:avLst/>
          </a:prstGeom>
          <a:ln w="0">
            <a:noFill/>
          </a:ln>
        </p:spPr>
      </p:pic>
      <p:sp>
        <p:nvSpPr>
          <p:cNvPr id="196" name="Freeform 7"/>
          <p:cNvSpPr/>
          <p:nvPr/>
        </p:nvSpPr>
        <p:spPr>
          <a:xfrm>
            <a:off x="1752480" y="5300640"/>
            <a:ext cx="5562720" cy="135000"/>
          </a:xfrm>
          <a:custGeom>
            <a:avLst/>
            <a:gdLst>
              <a:gd name="textAreaLeft" fmla="*/ 0 w 5562720"/>
              <a:gd name="textAreaRight" fmla="*/ 5563080 w 556272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3504" h="85">
                <a:moveTo>
                  <a:pt x="0" y="69"/>
                </a:moveTo>
                <a:cubicBezTo>
                  <a:pt x="692" y="85"/>
                  <a:pt x="1375" y="79"/>
                  <a:pt x="1776" y="69"/>
                </a:cubicBezTo>
                <a:cubicBezTo>
                  <a:pt x="2177" y="59"/>
                  <a:pt x="2118" y="18"/>
                  <a:pt x="2406" y="9"/>
                </a:cubicBezTo>
                <a:cubicBezTo>
                  <a:pt x="2694" y="0"/>
                  <a:pt x="3275" y="15"/>
                  <a:pt x="3504" y="17"/>
                </a:cubicBezTo>
              </a:path>
            </a:pathLst>
          </a:cu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5268600" y="240660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Narrow"/>
              </a:rPr>
              <a:t>ПОЛОЖИТЕ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0"/>
          <p:cNvSpPr/>
          <p:nvPr/>
        </p:nvSpPr>
        <p:spPr>
          <a:xfrm>
            <a:off x="5042160" y="4724280"/>
            <a:ext cx="22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Narrow"/>
              </a:rPr>
              <a:t>АМПЛИФИКАЦИИ 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1"/>
          <p:cNvSpPr/>
          <p:nvPr/>
        </p:nvSpPr>
        <p:spPr>
          <a:xfrm>
            <a:off x="380880" y="6429240"/>
            <a:ext cx="441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качества молекулярной диагностики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F429F-031A-4C9D-9F32-AF7764CA44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11142-7356-4B4B-94AF-5D5B9E95BF6D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ЦР в реальном времен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03" name="Picture 3" descr=""/>
          <p:cNvPicPr/>
          <p:nvPr/>
        </p:nvPicPr>
        <p:blipFill>
          <a:blip r:embed="rId1"/>
          <a:stretch/>
        </p:blipFill>
        <p:spPr>
          <a:xfrm>
            <a:off x="1373040" y="1676520"/>
            <a:ext cx="6397920" cy="3886200"/>
          </a:xfrm>
          <a:prstGeom prst="rect">
            <a:avLst/>
          </a:prstGeom>
          <a:ln w="0">
            <a:noFill/>
          </a:ln>
        </p:spPr>
      </p:pic>
      <p:pic>
        <p:nvPicPr>
          <p:cNvPr id="204" name="TextBox 1" descr=""/>
          <p:cNvPicPr/>
          <p:nvPr/>
        </p:nvPicPr>
        <p:blipFill>
          <a:blip r:embed="rId2"/>
          <a:stretch/>
        </p:blipFill>
        <p:spPr>
          <a:xfrm>
            <a:off x="1474920" y="2773440"/>
            <a:ext cx="353880" cy="1474560"/>
          </a:xfrm>
          <a:prstGeom prst="rect">
            <a:avLst/>
          </a:prstGeom>
          <a:ln w="0">
            <a:noFill/>
          </a:ln>
        </p:spPr>
      </p:pic>
      <p:sp>
        <p:nvSpPr>
          <p:cNvPr id="205" name="TextBox 7"/>
          <p:cNvSpPr/>
          <p:nvPr/>
        </p:nvSpPr>
        <p:spPr>
          <a:xfrm>
            <a:off x="3931200" y="5334120"/>
            <a:ext cx="115920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Verdana"/>
              </a:rPr>
              <a:t>Номер цикл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8"/>
          <p:cNvSpPr/>
          <p:nvPr/>
        </p:nvSpPr>
        <p:spPr>
          <a:xfrm>
            <a:off x="7023960" y="2114640"/>
            <a:ext cx="7095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Проба 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Verdana"/>
              </a:rPr>
              <a:t>Проба 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9"/>
          <p:cNvSpPr/>
          <p:nvPr/>
        </p:nvSpPr>
        <p:spPr>
          <a:xfrm>
            <a:off x="7113960" y="4021200"/>
            <a:ext cx="5724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66"/>
                </a:solidFill>
                <a:latin typeface="Verdana"/>
              </a:rPr>
              <a:t>Поро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0"/>
          <p:cNvSpPr/>
          <p:nvPr/>
        </p:nvSpPr>
        <p:spPr>
          <a:xfrm>
            <a:off x="2879640" y="4770360"/>
            <a:ext cx="57636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b0f0"/>
                </a:solidFill>
                <a:latin typeface="Verdana"/>
              </a:rPr>
              <a:t>Фо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1"/>
          <p:cNvSpPr/>
          <p:nvPr/>
        </p:nvSpPr>
        <p:spPr>
          <a:xfrm>
            <a:off x="2517480" y="3290760"/>
            <a:ext cx="115596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b0f0"/>
                </a:solidFill>
                <a:latin typeface="Verdana"/>
              </a:rPr>
              <a:t>Экспоненциальна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b0f0"/>
                </a:solidFill>
                <a:latin typeface="Verdana"/>
              </a:rPr>
              <a:t> </a:t>
            </a:r>
            <a:r>
              <a:rPr b="1" lang="ru-RU" sz="900" spc="-1" strike="noStrike">
                <a:solidFill>
                  <a:srgbClr val="00b0f0"/>
                </a:solidFill>
                <a:latin typeface="Verdana"/>
              </a:rPr>
              <a:t>фаз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1"/>
          <p:cNvSpPr/>
          <p:nvPr/>
        </p:nvSpPr>
        <p:spPr>
          <a:xfrm>
            <a:off x="380880" y="6429240"/>
            <a:ext cx="441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качества молекулярной диагностики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C685C-FA01-4F08-AA87-1177CCD3A4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BF896-63FA-4B61-90D0-8164F6216B35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6663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ирус гриппа </a:t>
            </a: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14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ooter Placeholder 1"/>
          <p:cNvSpPr/>
          <p:nvPr/>
        </p:nvSpPr>
        <p:spPr>
          <a:xfrm>
            <a:off x="380880" y="6429240"/>
            <a:ext cx="441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качества молекулярной диагностики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51918-8D1F-489A-A200-2EC503B4CB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352D2-F899-4762-BE79-E0D028755CFB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ирус гриппа </a:t>
            </a: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19" name="Picture 3" descr=""/>
          <p:cNvPicPr/>
          <p:nvPr/>
        </p:nvPicPr>
        <p:blipFill>
          <a:blip r:embed="rId1"/>
          <a:stretch/>
        </p:blipFill>
        <p:spPr>
          <a:xfrm>
            <a:off x="650880" y="1676520"/>
            <a:ext cx="7883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Olga</cp:lastModifiedBy>
  <dcterms:modified xsi:type="dcterms:W3CDTF">2013-05-12T11:03:51Z</dcterms:modified>
  <cp:revision>17</cp:revision>
  <dc:subject/>
  <dc:title>Quality Control:   Molecular Diagnostics</dc:title>
</cp:coreProperties>
</file>